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C0A-54FC-4A86-A8E8-A7B6E51F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BCC-A8EE-4EB6-9DA5-B73163F9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A5E-6907-4ED3-B3B8-EACFAFE8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FE9-76D8-4748-A131-762F1EEC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936B-AD04-487A-AB27-21836813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19A0-B475-43E9-97A0-B829538B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F32C-79A9-4359-90A6-548ECEC2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1021-2FE6-451E-AF04-509BE0F4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C98D-F8F5-435F-897C-44352796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8ED9-F7FF-4B16-9B17-7AF98744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B1E9-9134-4FFE-89C9-8461904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197-3ADA-43A5-8CB8-247DA8B7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4335-C5AD-4E4B-9C80-EBD49503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8452-2854-49DF-98B5-D126B5DB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59A7-40F0-4247-A0DE-799B0B0F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99D4-80E9-474B-8F75-39BFBAA9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C13B-C550-4148-B778-44228E07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41A-CF26-4B43-97D5-61D43869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7F9-B478-4258-A5A1-D497ED6E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967-0A01-4532-B6DD-0638F17B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651-633B-4E4F-9E8E-4944AE3C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3AE-A996-449F-B1EF-1511973B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583-0882-4261-85FC-92C1713A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A72-5A66-4023-ADF0-394A0C8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D5F1-F0EC-4A24-9345-125919890E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A703-292C-444E-A81C-6BEB56B849B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120" y="41148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chanization, Urban Growth, Proletarianization, Consum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3" name="Picture 101" descr="j0188311[1]"/>
          <p:cNvPicPr/>
          <p:nvPr/>
        </p:nvPicPr>
        <p:blipFill>
          <a:blip r:embed="rId1"/>
          <a:stretch/>
        </p:blipFill>
        <p:spPr>
          <a:xfrm>
            <a:off x="2971800" y="0"/>
            <a:ext cx="335268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litarianiz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19720" cy="25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ring the century, factory workers underwent a process of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letarianization (i.e., they lost control of the means of production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Picture 4" descr="proletariat"/>
          <p:cNvPicPr/>
          <p:nvPr/>
        </p:nvPicPr>
        <p:blipFill>
          <a:blip r:embed="rId1"/>
          <a:srcRect l="34887" t="0" r="0" b="0"/>
          <a:stretch/>
        </p:blipFill>
        <p:spPr>
          <a:xfrm>
            <a:off x="5587920" y="503280"/>
            <a:ext cx="3556080" cy="3492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977760" y="4351320"/>
            <a:ext cx="778536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actory owners provided the financial capital to construct the factory, to purchase the machinery, and to secure the raw material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The factory workers merely exchanged their labor for wag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amily Structures Chang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510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the decline of the domestic system and the rise of the factory system, family life changed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 first, the entire family, including the children, worked in the factory, just as they had at ho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ter, family life became fragmented (the father worked in the factory, the mother handled domestic chores, the children went to school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Picture 4" descr="factory2"/>
          <p:cNvPicPr/>
          <p:nvPr/>
        </p:nvPicPr>
        <p:blipFill>
          <a:blip r:embed="rId1"/>
          <a:srcRect l="0" t="0" r="52627" b="6454"/>
          <a:stretch/>
        </p:blipFill>
        <p:spPr>
          <a:xfrm>
            <a:off x="6172200" y="1752480"/>
            <a:ext cx="275256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Family as a Unit of Consumpt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902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In short, the European family changed from being a unit of production and consumption to being a unit of consumption alon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4" name="Picture 4" descr="family2"/>
          <p:cNvPicPr/>
          <p:nvPr/>
        </p:nvPicPr>
        <p:blipFill>
          <a:blip r:embed="rId1">
            <a:lum bright="18000"/>
          </a:blip>
          <a:srcRect l="6803" t="10448" r="20605" b="8956"/>
          <a:stretch/>
        </p:blipFill>
        <p:spPr>
          <a:xfrm>
            <a:off x="6400800" y="1676520"/>
            <a:ext cx="2438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chaniz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ring the first half of the 19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entury, the Europea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anufacturing process shifted from small-scale production by hand at home to large-scale production by  machin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n a factory sett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Picture 4" descr="handloom"/>
          <p:cNvPicPr/>
          <p:nvPr/>
        </p:nvPicPr>
        <p:blipFill>
          <a:blip r:embed="rId1"/>
          <a:stretch/>
        </p:blipFill>
        <p:spPr>
          <a:xfrm>
            <a:off x="5538960" y="1752480"/>
            <a:ext cx="341136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xpense of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hift meant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high quality products at competitive prices, but often at the expense of  worker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For example, the raw wool and cotton that fed the British textile mills came from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nds converted from farming to sheep raising, leaving farm workers without job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outhern plantations of the United States, which were dependent upon slave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Picture 41" descr="NG-01-Slave-C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00800" y="3048120"/>
            <a:ext cx="25113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rban Grow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ose who could no longer make a living on the l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grated from the countryside to the cities to seek work in the 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990720" y="4267080"/>
            <a:ext cx="4267080" cy="2203560"/>
            <a:chOff x="990720" y="4267080"/>
            <a:chExt cx="4267080" cy="2203560"/>
          </a:xfrm>
        </p:grpSpPr>
        <p:graphicFrame>
          <p:nvGraphicFramePr>
            <p:cNvPr id="113" name="Object 6"/>
            <p:cNvGraphicFramePr/>
            <p:nvPr/>
          </p:nvGraphicFramePr>
          <p:xfrm>
            <a:off x="1067040" y="4495680"/>
            <a:ext cx="3797280" cy="197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7040" y="4495680"/>
                      <a:ext cx="3797280" cy="197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Text Box 7"/>
            <p:cNvSpPr/>
            <p:nvPr/>
          </p:nvSpPr>
          <p:spPr>
            <a:xfrm>
              <a:off x="990720" y="426708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1850: Population Living in Cities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16" name="Picture 11" descr="aberdeen"/>
          <p:cNvPicPr/>
          <p:nvPr/>
        </p:nvPicPr>
        <p:blipFill>
          <a:blip r:embed="rId3"/>
          <a:stretch/>
        </p:blipFill>
        <p:spPr>
          <a:xfrm>
            <a:off x="5486400" y="1676520"/>
            <a:ext cx="329256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pulation Grow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t the same time, the population of Europe continued to grow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Picture 7" descr="population2"/>
          <p:cNvPicPr/>
          <p:nvPr/>
        </p:nvPicPr>
        <p:blipFill>
          <a:blip r:embed="rId1"/>
          <a:stretch/>
        </p:blipFill>
        <p:spPr>
          <a:xfrm>
            <a:off x="5562720" y="1676520"/>
            <a:ext cx="319068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10"/>
          <p:cNvGraphicFramePr/>
          <p:nvPr/>
        </p:nvGraphicFramePr>
        <p:xfrm>
          <a:off x="609480" y="3505320"/>
          <a:ext cx="4876920" cy="30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505320"/>
                    <a:ext cx="487692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Plight of the Cit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953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hee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number of human beings put pressure on city resou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using, water, sewers, food supplies, and lighting were completely inadequa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Picture 8" descr="crime2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19920" y="1752480"/>
            <a:ext cx="2876400" cy="2108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1066680" y="4129200"/>
            <a:ext cx="7315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lums grew and disease, especially cholera, ravaged the population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ime increased and became a way of life for those who could make a living in no other wa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ditions in the  Countrys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527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only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successful farmers were those with large landholdings who could afford agricultural innovation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st peasant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dn’t have enough land to support themselv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ere devastated by poor harvests (e.g., the Irish Potato Famine of 1845-47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ere forced to move to the cities to find work in the factori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11" descr="countryside5"/>
          <p:cNvPicPr/>
          <p:nvPr/>
        </p:nvPicPr>
        <p:blipFill>
          <a:blip r:embed="rId1"/>
          <a:srcRect l="31998" t="0" r="0" b="0"/>
          <a:stretch/>
        </p:blipFill>
        <p:spPr>
          <a:xfrm>
            <a:off x="5730840" y="1730520"/>
            <a:ext cx="311940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Role of the Railroa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ailroads, built during the 1830s and 1840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abled people to leave the place of their birth an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migrate easily to the citi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owe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heaper and more rapid transport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 raw materials and finished produc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eated an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increased demand for iron and steel and a skilled labor fo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Picture 4" descr="rail"/>
          <p:cNvPicPr/>
          <p:nvPr/>
        </p:nvPicPr>
        <p:blipFill>
          <a:blip r:embed="rId1"/>
          <a:stretch/>
        </p:blipFill>
        <p:spPr>
          <a:xfrm>
            <a:off x="5867280" y="17524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Labor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49532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single description could include all of these 19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 worker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ctory work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rban artisa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mestic system crafts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usehold servan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n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ntryside peddl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rm work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ilroad work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ations in duties, income, and working conditions made it difficult for them to uni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Picture 4" descr="workers2"/>
          <p:cNvPicPr/>
          <p:nvPr/>
        </p:nvPicPr>
        <p:blipFill>
          <a:blip r:embed="rId1"/>
          <a:stretch/>
        </p:blipFill>
        <p:spPr>
          <a:xfrm>
            <a:off x="5873760" y="1295280"/>
            <a:ext cx="304164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9:03:44Z</dcterms:created>
  <dc:creator>Edrene S. McKay</dc:creator>
  <dc:description/>
  <dc:language>en-US</dc:language>
  <cp:lastModifiedBy>hberndt</cp:lastModifiedBy>
  <dcterms:modified xsi:type="dcterms:W3CDTF">2010-01-07T14:31:56Z</dcterms:modified>
  <cp:revision>22</cp:revision>
  <dc:subject/>
  <dc:title>The Industrial Revolution</dc:title>
</cp:coreProperties>
</file>